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7EA-92B3-4CFD-B4DD-36C45B07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6C5-E449-4C83-B54D-C17F444E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1E9-D4FA-4022-8AF7-0F53ADFC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980-5941-432B-8498-3A2A1C84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76D-1398-4B40-A3EF-C13A9D10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F15-DD1F-4163-9809-B51E481C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B82-929D-4BC9-94B3-817175A5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886-3380-4133-83D1-B45AA9CB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ABB-F1A9-449C-95E8-C1C4527E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A7E-E8E5-4E0C-BD0A-B6F959B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3F9-F50C-4A63-A764-971725D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C4C-4FDE-400D-B5B6-3CB24CF0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CE88-DB76-4AED-B0A7-AE90B0ABA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nnag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АННИНСКОГО ГОРОД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C:\Users\dohod5\Pictures\бюд 22\Рисунок7.png"/>
          <p:cNvPicPr/>
          <p:nvPr/>
        </p:nvPicPr>
        <p:blipFill>
          <a:blip r:embed="rId3"/>
          <a:stretch/>
        </p:blipFill>
        <p:spPr>
          <a:xfrm>
            <a:off x="235728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6"/>
          <p:cNvSpPr/>
          <p:nvPr/>
        </p:nvSpPr>
        <p:spPr>
          <a:xfrm>
            <a:off x="0" y="22017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 об исполнении  бюджета Аннинского городского поселения Аннин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униципального района Воронежской обла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ННИНСКОЕ ГОРОД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Герб"/>
          <p:cNvPicPr/>
          <p:nvPr/>
        </p:nvPicPr>
        <p:blipFill>
          <a:blip r:embed="rId4"/>
          <a:stretch/>
        </p:blipFill>
        <p:spPr>
          <a:xfrm>
            <a:off x="496800" y="214200"/>
            <a:ext cx="574920" cy="7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1" descr="Потребительские кредиты наличными от 9,8% без страховок в Банке Нейва"/>
          <p:cNvPicPr/>
          <p:nvPr/>
        </p:nvPicPr>
        <p:blipFill>
          <a:blip r:embed="rId5"/>
          <a:stretch/>
        </p:blipFill>
        <p:spPr>
          <a:xfrm>
            <a:off x="3643200" y="3214800"/>
            <a:ext cx="1571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сходы бюдж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нинского город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28760" y="1428840"/>
          <a:ext cx="8286480" cy="2663640"/>
        </p:xfrm>
        <a:graphic>
          <a:graphicData uri="http://schemas.openxmlformats.org/drawingml/2006/table">
            <a:tbl>
              <a:tblPr/>
              <a:tblGrid>
                <a:gridCol w="780840"/>
                <a:gridCol w="4148280"/>
                <a:gridCol w="1428840"/>
                <a:gridCol w="1071360"/>
                <a:gridCol w="857160"/>
              </a:tblGrid>
              <a:tr h="33516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6840"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ВСЕ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9 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 4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7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7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97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 88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 97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 94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7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87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0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86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уживание государственного (муниципального)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нинского городского поселения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Диаграмма 7" descr=""/>
          <p:cNvPicPr/>
          <p:nvPr/>
        </p:nvPicPr>
        <p:blipFill>
          <a:blip r:embed="rId2"/>
          <a:stretch/>
        </p:blipFill>
        <p:spPr>
          <a:xfrm>
            <a:off x="133200" y="1066680"/>
            <a:ext cx="901728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межбюджетных трансфертов в 2023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1"/>
          <p:cNvSpPr/>
          <p:nvPr/>
        </p:nvSpPr>
        <p:spPr>
          <a:xfrm>
            <a:off x="1500120" y="278604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хема 10" descr=""/>
          <p:cNvPicPr/>
          <p:nvPr/>
        </p:nvPicPr>
        <p:blipFill>
          <a:blip r:embed="rId2"/>
          <a:stretch/>
        </p:blipFill>
        <p:spPr>
          <a:xfrm>
            <a:off x="974880" y="853920"/>
            <a:ext cx="7467480" cy="1865520"/>
          </a:xfrm>
          <a:prstGeom prst="rect">
            <a:avLst/>
          </a:prstGeom>
          <a:ln w="0">
            <a:noFill/>
          </a:ln>
        </p:spPr>
      </p:pic>
      <p:pic>
        <p:nvPicPr>
          <p:cNvPr id="174" name="Диаграмма 11" descr=""/>
          <p:cNvPicPr/>
          <p:nvPr/>
        </p:nvPicPr>
        <p:blipFill>
          <a:blip r:embed="rId3"/>
          <a:stretch/>
        </p:blipFill>
        <p:spPr>
          <a:xfrm>
            <a:off x="633240" y="3638520"/>
            <a:ext cx="8004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14" descr=""/>
          <p:cNvPicPr/>
          <p:nvPr/>
        </p:nvPicPr>
        <p:blipFill>
          <a:blip r:embed="rId2"/>
          <a:stretch/>
        </p:blipFill>
        <p:spPr>
          <a:xfrm>
            <a:off x="-6480" y="165240"/>
            <a:ext cx="9156960" cy="125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2" descr="http://img.lenagold.ru/d/deng/deng137.png"/>
          <p:cNvPicPr/>
          <p:nvPr/>
        </p:nvPicPr>
        <p:blipFill>
          <a:blip r:embed="rId3"/>
          <a:stretch/>
        </p:blipFill>
        <p:spPr>
          <a:xfrm>
            <a:off x="6786720" y="4572000"/>
            <a:ext cx="1319040" cy="128592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8"/>
          <p:cNvSpPr/>
          <p:nvPr/>
        </p:nvSpPr>
        <p:spPr>
          <a:xfrm>
            <a:off x="428760" y="1500120"/>
            <a:ext cx="8143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юджет Аннинского городского поселения за 2023 год дефицитный (расходы превысили доходы на 1505,9 тыс.руб.). Денежные средства на покрытие дефицита взяты с остатков средств  бюджета на начало 01.01.2023г. В плановом периоде сохраняется высокая степень зависимости муниципалитета от бюджетов вышестоящих уровней, поступление от других бюджетов бюджетной системы в 2023г. составило – 78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142920" y="1071720"/>
            <a:ext cx="8858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 Аннинского город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еляев Алексей Викт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Воронежская область Аннинский район 396250 пгт.Анна, ул. Ленина,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8-47346-2-13-58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nnag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отчет об исполнении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8" descr=""/>
          <p:cNvPicPr/>
          <p:nvPr/>
        </p:nvPicPr>
        <p:blipFill>
          <a:blip r:embed="rId2"/>
          <a:stretch/>
        </p:blipFill>
        <p:spPr>
          <a:xfrm>
            <a:off x="-579600" y="4638600"/>
            <a:ext cx="926640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444600" cy="444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1" descr="Dienstleistungen | Mercurio Technology GmbH"/>
          <p:cNvPicPr/>
          <p:nvPr/>
        </p:nvPicPr>
        <p:blipFill>
          <a:blip r:embed="rId4"/>
          <a:stretch/>
        </p:blipFill>
        <p:spPr>
          <a:xfrm>
            <a:off x="642960" y="471492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35712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я бюджета по доходам, з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дачей данного этапа  является обеспечение полного и своевременного поступления в бюджет отдельных видов доходов в соответствии с утвержденным бюджетным пл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4643280" y="3714840"/>
            <a:ext cx="4214880" cy="857160"/>
          </a:xfrm>
          <a:prstGeom prst="rect">
            <a:avLst/>
          </a:prstGeom>
          <a:solidFill>
            <a:srgbClr val="ebf1de">
              <a:alpha val="70000"/>
            </a:srgbClr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по расходам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, которое означает последовательное финансирование мероприятий, предусмотренных законом о бюджете, в пределах утвержденны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57120" y="2639880"/>
            <a:ext cx="8501040" cy="641520"/>
          </a:xfrm>
          <a:prstGeom prst="rect">
            <a:avLst/>
          </a:prstGeom>
          <a:solidFill>
            <a:srgbClr val="ebf1de">
              <a:alpha val="70000"/>
            </a:srgbClr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 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- это этап бюджетного процесса, который начинается с момента утверждения решения о бюджете представительным органом власти и продолжается в течение финансового года. Его содержание заключается в выполнении доходной и расходной части бюдже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4"/>
          <p:cNvSpPr/>
          <p:nvPr/>
        </p:nvSpPr>
        <p:spPr>
          <a:xfrm>
            <a:off x="357120" y="2286000"/>
            <a:ext cx="8501040" cy="276480"/>
          </a:xfrm>
          <a:prstGeom prst="rect">
            <a:avLst/>
          </a:prstGeom>
          <a:solidFill>
            <a:srgbClr val="d7e4bd"/>
          </a:solidFill>
          <a:ln w="381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71"/>
          <p:cNvGrpSpPr/>
          <p:nvPr/>
        </p:nvGrpSpPr>
        <p:grpSpPr>
          <a:xfrm>
            <a:off x="357120" y="3357720"/>
            <a:ext cx="4214880" cy="285480"/>
            <a:chOff x="357120" y="3357720"/>
            <a:chExt cx="4214880" cy="285480"/>
          </a:xfrm>
        </p:grpSpPr>
        <p:sp>
          <p:nvSpPr>
            <p:cNvPr id="69" name="Прямоугольник 16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оугольник 17"/>
            <p:cNvSpPr/>
            <p:nvPr/>
          </p:nvSpPr>
          <p:spPr>
            <a:xfrm>
              <a:off x="357120" y="3357720"/>
              <a:ext cx="4214880" cy="285480"/>
            </a:xfrm>
            <a:prstGeom prst="rect">
              <a:avLst/>
            </a:prstGeom>
            <a:solidFill>
              <a:srgbClr val="d7e4bd"/>
            </a:solidFill>
            <a:ln w="38160">
              <a:solidFill>
                <a:srgbClr val="dce6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lang="ru-RU" sz="1400" spc="-1" strike="noStrike">
                  <a:solidFill>
                    <a:srgbClr val="14385c"/>
                  </a:solidFill>
                  <a:latin typeface="Times New Roman"/>
                  <a:ea typeface="Times New Roman"/>
                </a:rPr>
                <a:t>исполнение по доход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Группа 74" descr=""/>
          <p:cNvPicPr/>
          <p:nvPr/>
        </p:nvPicPr>
        <p:blipFill>
          <a:blip r:embed="rId5"/>
          <a:stretch/>
        </p:blipFill>
        <p:spPr>
          <a:xfrm>
            <a:off x="4621320" y="3328920"/>
            <a:ext cx="4260600" cy="341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83"/>
          <p:cNvSpPr/>
          <p:nvPr/>
        </p:nvSpPr>
        <p:spPr>
          <a:xfrm>
            <a:off x="571680" y="1938240"/>
            <a:ext cx="82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ение и утверждение отчета об исполнении бюджета является важной формой контроля  за исполнением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4"/>
          <p:cNvSpPr/>
          <p:nvPr/>
        </p:nvSpPr>
        <p:spPr>
          <a:xfrm>
            <a:off x="571680" y="15001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лавные администраторы бюджетных средств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оставляют бюджетную отчетность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на основании представленной им бюджетной 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отчетности</a:t>
            </a: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 дефици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5"/>
          <p:cNvSpPr/>
          <p:nvPr/>
        </p:nvSpPr>
        <p:spPr>
          <a:xfrm>
            <a:off x="571680" y="1071720"/>
            <a:ext cx="828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Годовой отчет об исполнении местного бюджета представляется в представительный орган муниципального образования не позднее 1 мая текущего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9" descr="Поступающим"/>
          <p:cNvPicPr/>
          <p:nvPr/>
        </p:nvPicPr>
        <p:blipFill>
          <a:blip r:embed="rId6"/>
          <a:stretch/>
        </p:blipFill>
        <p:spPr>
          <a:xfrm>
            <a:off x="311040" y="1066680"/>
            <a:ext cx="335160" cy="33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9" descr="Поступающим"/>
          <p:cNvPicPr/>
          <p:nvPr/>
        </p:nvPicPr>
        <p:blipFill>
          <a:blip r:embed="rId7"/>
          <a:stretch/>
        </p:blipFill>
        <p:spPr>
          <a:xfrm>
            <a:off x="353880" y="1494000"/>
            <a:ext cx="335160" cy="334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9" descr="Поступающим"/>
          <p:cNvPicPr/>
          <p:nvPr/>
        </p:nvPicPr>
        <p:blipFill>
          <a:blip r:embed="rId8"/>
          <a:stretch/>
        </p:blipFill>
        <p:spPr>
          <a:xfrm>
            <a:off x="353880" y="1884240"/>
            <a:ext cx="33516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0" y="252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сполнение бюджета Аннинского город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8584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 бюджета Аннинского городского поселения Аннинского муниципального района в 2023 году осуществлялось на основ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хема 8" descr=""/>
          <p:cNvPicPr/>
          <p:nvPr/>
        </p:nvPicPr>
        <p:blipFill>
          <a:blip r:embed="rId2"/>
          <a:stretch/>
        </p:blipFill>
        <p:spPr>
          <a:xfrm>
            <a:off x="695160" y="1695600"/>
            <a:ext cx="7894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8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4"/>
          <p:cNvSpPr/>
          <p:nvPr/>
        </p:nvSpPr>
        <p:spPr>
          <a:xfrm>
            <a:off x="0" y="214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характеристики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нинского городского поселения за 202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42960" y="1258920"/>
          <a:ext cx="7858080" cy="1574640"/>
        </p:xfrm>
        <a:graphic>
          <a:graphicData uri="http://schemas.openxmlformats.org/drawingml/2006/table">
            <a:tbl>
              <a:tblPr/>
              <a:tblGrid>
                <a:gridCol w="743040"/>
                <a:gridCol w="3051000"/>
                <a:gridCol w="1474920"/>
                <a:gridCol w="1225440"/>
                <a:gridCol w="1363680"/>
              </a:tblGrid>
              <a:tr h="407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Уточненный план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сполнение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% исполнения к уточненному план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11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6 227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4 983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53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алоговые и неналогов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5 298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6 907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20 736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18 075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77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9 342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6 489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ЕФИЦИТ(-) / ПРОФИЦИТ(+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3 115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1 505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16" name="AutoShape 2"/>
          <p:cNvSpPr/>
          <p:nvPr/>
        </p:nvSpPr>
        <p:spPr>
          <a:xfrm>
            <a:off x="1357200" y="3571920"/>
            <a:ext cx="2411640" cy="117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5518080" y="3571920"/>
            <a:ext cx="2411640" cy="117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571760" y="3701880"/>
            <a:ext cx="1898640" cy="2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копленные резер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71760" y="4238640"/>
            <a:ext cx="1898640" cy="29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дол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803920" y="3738600"/>
            <a:ext cx="1898640" cy="29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копленные резер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5803920" y="4245120"/>
            <a:ext cx="1898640" cy="29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ый дол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AutoShape 5"/>
          <p:cNvGrpSpPr/>
          <p:nvPr/>
        </p:nvGrpSpPr>
        <p:grpSpPr>
          <a:xfrm>
            <a:off x="7527960" y="3706920"/>
            <a:ext cx="330120" cy="401400"/>
            <a:chOff x="7527960" y="3706920"/>
            <a:chExt cx="330120" cy="401400"/>
          </a:xfrm>
        </p:grpSpPr>
        <p:pic>
          <p:nvPicPr>
            <p:cNvPr id="123" name="AutoShape 5" descr=""/>
            <p:cNvPicPr/>
            <p:nvPr/>
          </p:nvPicPr>
          <p:blipFill>
            <a:blip r:embed="rId2"/>
            <a:stretch/>
          </p:blipFill>
          <p:spPr>
            <a:xfrm>
              <a:off x="7527960" y="3706920"/>
              <a:ext cx="33012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642080" y="3781440"/>
              <a:ext cx="1047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6"/>
          <p:cNvGrpSpPr/>
          <p:nvPr/>
        </p:nvGrpSpPr>
        <p:grpSpPr>
          <a:xfrm>
            <a:off x="7527960" y="4206960"/>
            <a:ext cx="336600" cy="401400"/>
            <a:chOff x="7527960" y="4206960"/>
            <a:chExt cx="336600" cy="401400"/>
          </a:xfrm>
        </p:grpSpPr>
        <p:pic>
          <p:nvPicPr>
            <p:cNvPr id="126" name="AutoShape 6" descr=""/>
            <p:cNvPicPr/>
            <p:nvPr/>
          </p:nvPicPr>
          <p:blipFill>
            <a:blip r:embed="rId3"/>
            <a:stretch/>
          </p:blipFill>
          <p:spPr>
            <a:xfrm>
              <a:off x="7527960" y="4206960"/>
              <a:ext cx="3366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645320" y="4245120"/>
              <a:ext cx="1094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Скругленный прямоугольник 22"/>
          <p:cNvSpPr/>
          <p:nvPr/>
        </p:nvSpPr>
        <p:spPr>
          <a:xfrm>
            <a:off x="1571760" y="3214800"/>
            <a:ext cx="2100240" cy="36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23"/>
          <p:cNvSpPr/>
          <p:nvPr/>
        </p:nvSpPr>
        <p:spPr>
          <a:xfrm>
            <a:off x="5732640" y="3214800"/>
            <a:ext cx="2100240" cy="36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428840" y="4819320"/>
            <a:ext cx="23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дефицитном бюдж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ет долг и (и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аются остатки средств (накоп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703840" y="4728240"/>
            <a:ext cx="2100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 профицитном бюдж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ается долг и (и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ут остатки средств (накоп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AutoShape 5"/>
          <p:cNvGrpSpPr/>
          <p:nvPr/>
        </p:nvGrpSpPr>
        <p:grpSpPr>
          <a:xfrm>
            <a:off x="3297240" y="3706920"/>
            <a:ext cx="324000" cy="401400"/>
            <a:chOff x="3297240" y="3706920"/>
            <a:chExt cx="324000" cy="401400"/>
          </a:xfrm>
        </p:grpSpPr>
        <p:pic>
          <p:nvPicPr>
            <p:cNvPr id="133" name="AutoShape 5" descr=""/>
            <p:cNvPicPr/>
            <p:nvPr/>
          </p:nvPicPr>
          <p:blipFill>
            <a:blip r:embed="rId4"/>
            <a:stretch/>
          </p:blipFill>
          <p:spPr>
            <a:xfrm>
              <a:off x="3297240" y="3706920"/>
              <a:ext cx="3240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09920" y="3781440"/>
              <a:ext cx="1047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AutoShape 6"/>
          <p:cNvGrpSpPr/>
          <p:nvPr/>
        </p:nvGrpSpPr>
        <p:grpSpPr>
          <a:xfrm>
            <a:off x="3297240" y="4206960"/>
            <a:ext cx="336600" cy="401400"/>
            <a:chOff x="3297240" y="4206960"/>
            <a:chExt cx="336600" cy="401400"/>
          </a:xfrm>
        </p:grpSpPr>
        <p:pic>
          <p:nvPicPr>
            <p:cNvPr id="136" name="AutoShape 6" descr=""/>
            <p:cNvPicPr/>
            <p:nvPr/>
          </p:nvPicPr>
          <p:blipFill>
            <a:blip r:embed="rId5"/>
            <a:stretch/>
          </p:blipFill>
          <p:spPr>
            <a:xfrm>
              <a:off x="3297240" y="4206960"/>
              <a:ext cx="3366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411360" y="4245120"/>
              <a:ext cx="111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4" descr="10 способов сократить расходы бизнеса - Inc. Russia"/>
          <p:cNvPicPr/>
          <p:nvPr/>
        </p:nvPicPr>
        <p:blipFill>
          <a:blip r:embed="rId6"/>
          <a:stretch/>
        </p:blipFill>
        <p:spPr>
          <a:xfrm>
            <a:off x="3803760" y="3638520"/>
            <a:ext cx="16333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хема 25" descr=""/>
          <p:cNvPicPr/>
          <p:nvPr/>
        </p:nvPicPr>
        <p:blipFill>
          <a:blip r:embed="rId2"/>
          <a:stretch/>
        </p:blipFill>
        <p:spPr>
          <a:xfrm>
            <a:off x="128520" y="133200"/>
            <a:ext cx="8912160" cy="358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214200" y="2786040"/>
          <a:ext cx="8786880" cy="3667320"/>
        </p:xfrm>
        <a:graphic>
          <a:graphicData uri="http://schemas.openxmlformats.org/drawingml/2006/table">
            <a:tbl>
              <a:tblPr/>
              <a:tblGrid>
                <a:gridCol w="3808440"/>
                <a:gridCol w="1693800"/>
                <a:gridCol w="2332080"/>
                <a:gridCol w="952560"/>
              </a:tblGrid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н на 2023г., 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полнено за 2023г.,тыс.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415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48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Акци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9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9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6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17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95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24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441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357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0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5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5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5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си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0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016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8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566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062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0498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0"/>
          <p:cNvSpPr/>
          <p:nvPr/>
        </p:nvSpPr>
        <p:spPr>
          <a:xfrm>
            <a:off x="142920" y="14292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доходов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нинского городского поселения в 2023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oup 2" descr=""/>
          <p:cNvPicPr/>
          <p:nvPr/>
        </p:nvPicPr>
        <p:blipFill>
          <a:blip r:embed="rId2"/>
          <a:stretch/>
        </p:blipFill>
        <p:spPr>
          <a:xfrm>
            <a:off x="2054160" y="1432080"/>
            <a:ext cx="4979880" cy="4902120"/>
          </a:xfrm>
          <a:prstGeom prst="rect">
            <a:avLst/>
          </a:prstGeom>
          <a:ln w="0">
            <a:noFill/>
          </a:ln>
        </p:spPr>
      </p:pic>
      <p:sp>
        <p:nvSpPr>
          <p:cNvPr id="150" name="Скругленная прямоугольная выноска 18"/>
          <p:cNvSpPr/>
          <p:nvPr/>
        </p:nvSpPr>
        <p:spPr>
          <a:xfrm>
            <a:off x="2000160" y="5786280"/>
            <a:ext cx="1785960" cy="500400"/>
          </a:xfrm>
          <a:prstGeom prst="wedgeRoundRectCallout">
            <a:avLst>
              <a:gd name="adj1" fmla="val 77671"/>
              <a:gd name="adj2" fmla="val -31620"/>
              <a:gd name="adj3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ая прямоугольная выноска 19"/>
          <p:cNvSpPr/>
          <p:nvPr/>
        </p:nvSpPr>
        <p:spPr>
          <a:xfrm>
            <a:off x="6572160" y="5595840"/>
            <a:ext cx="1428840" cy="619200"/>
          </a:xfrm>
          <a:prstGeom prst="wedgeRoundRectCallout">
            <a:avLst>
              <a:gd name="adj1" fmla="val -144833"/>
              <a:gd name="adj2" fmla="val -94421"/>
              <a:gd name="adj3" fmla="val 16667"/>
            </a:avLst>
          </a:prstGeom>
          <a:noFill/>
          <a:ln w="19080">
            <a:solidFill>
              <a:srgbClr val="be4b4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ая прямоугольная выноска 20"/>
          <p:cNvSpPr/>
          <p:nvPr/>
        </p:nvSpPr>
        <p:spPr>
          <a:xfrm>
            <a:off x="6786720" y="1881360"/>
            <a:ext cx="1428480" cy="618840"/>
          </a:xfrm>
          <a:prstGeom prst="wedgeRoundRectCallout">
            <a:avLst>
              <a:gd name="adj1" fmla="val -115500"/>
              <a:gd name="adj2" fmla="val 74810"/>
              <a:gd name="adj3" fmla="val 16667"/>
            </a:avLst>
          </a:prstGeom>
          <a:noFill/>
          <a:ln w="19080">
            <a:solidFill>
              <a:srgbClr val="46aa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ая прямоугольная выноска 21"/>
          <p:cNvSpPr/>
          <p:nvPr/>
        </p:nvSpPr>
        <p:spPr>
          <a:xfrm>
            <a:off x="1428840" y="1523880"/>
            <a:ext cx="1299960" cy="619200"/>
          </a:xfrm>
          <a:prstGeom prst="wedgeRoundRectCallout">
            <a:avLst>
              <a:gd name="adj1" fmla="val 102245"/>
              <a:gd name="adj2" fmla="val -9810"/>
              <a:gd name="adj3" fmla="val 16667"/>
            </a:avLst>
          </a:prstGeom>
          <a:noFill/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7715160" y="125748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тыс. руб</a:t>
            </a:r>
            <a:r>
              <a:rPr b="0" lang="ru-RU" sz="16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User</cp:lastModifiedBy>
  <dcterms:modified xsi:type="dcterms:W3CDTF">2024-07-08T07:56:55Z</dcterms:modified>
  <cp:revision>107</cp:revision>
  <dc:subject/>
  <dc:title>Слайд 1</dc:title>
</cp:coreProperties>
</file>