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3F4-D6A7-4D8F-9B6E-625FC3F7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F29-E13F-4643-9BCD-76FCF19F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914-9F9B-436A-8776-8A67ED35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3539-8425-47DF-8BB7-82AFC88A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C1F7-CEBD-42C2-A0D5-F8AD8AF4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695-F511-43B9-829A-4FCFC582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9FB8-2ED4-4B12-B494-F0A456FD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0EF-A2F2-4405-9FBC-753D159F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4E4-CA37-4DA7-BBE2-ED7F4A56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D0F3-74E8-4555-8544-FF630454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09FF-41ED-40DD-B158-9812F0E2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FF93-2D92-41A1-B67C-6943A8FC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61B1-FEA8-47F5-AB6E-EFB3F67B91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annag.anna@govvrn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АННИНСКОГО ГОРОД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extBox 4" descr=""/>
          <p:cNvPicPr/>
          <p:nvPr/>
        </p:nvPicPr>
        <p:blipFill>
          <a:blip r:embed="rId2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1" descr="C:\Users\dohod5\Pictures\бюд 22\Рисунок7.png"/>
          <p:cNvPicPr/>
          <p:nvPr/>
        </p:nvPicPr>
        <p:blipFill>
          <a:blip r:embed="rId3"/>
          <a:stretch/>
        </p:blipFill>
        <p:spPr>
          <a:xfrm>
            <a:off x="2428920" y="1571760"/>
            <a:ext cx="5656320" cy="565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6"/>
          <p:cNvSpPr/>
          <p:nvPr/>
        </p:nvSpPr>
        <p:spPr>
          <a:xfrm>
            <a:off x="142920" y="1841400"/>
            <a:ext cx="88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 Решения Совета народных депутатов Аннинского городского поселения 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района № </a:t>
            </a:r>
            <a:r>
              <a:rPr b="1" i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_______-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 </a:t>
            </a:r>
            <a:r>
              <a:rPr b="1" i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_____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бюджете Аннинского городского поселения на 2025год и на плановый период 2026 и 2027 год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АННИНСКОЕ ГОРОДСКОЕ ПОСЕЛЕНИЕ,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Герб"/>
          <p:cNvPicPr/>
          <p:nvPr/>
        </p:nvPicPr>
        <p:blipFill>
          <a:blip r:embed="rId4"/>
          <a:stretch/>
        </p:blipFill>
        <p:spPr>
          <a:xfrm>
            <a:off x="496800" y="214200"/>
            <a:ext cx="574920" cy="7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1" descr="Потребительские кредиты наличными от 9,8% без страховок в Банке Нейва"/>
          <p:cNvPicPr/>
          <p:nvPr/>
        </p:nvPicPr>
        <p:blipFill>
          <a:blip r:embed="rId5"/>
          <a:stretch/>
        </p:blipFill>
        <p:spPr>
          <a:xfrm>
            <a:off x="3643200" y="307188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71680" y="785880"/>
          <a:ext cx="8072280" cy="2371680"/>
        </p:xfrm>
        <a:graphic>
          <a:graphicData uri="http://schemas.openxmlformats.org/drawingml/2006/table">
            <a:tbl>
              <a:tblPr/>
              <a:tblGrid>
                <a:gridCol w="865080"/>
                <a:gridCol w="4960800"/>
                <a:gridCol w="998640"/>
                <a:gridCol w="1247760"/>
              </a:tblGrid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1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5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04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1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48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1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29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1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55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3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1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38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1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7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pic>
        <p:nvPicPr>
          <p:cNvPr id="132" name="Диаграмма 11" descr=""/>
          <p:cNvPicPr/>
          <p:nvPr/>
        </p:nvPicPr>
        <p:blipFill>
          <a:blip r:embed="rId2"/>
          <a:stretch/>
        </p:blipFill>
        <p:spPr>
          <a:xfrm>
            <a:off x="566640" y="3139920"/>
            <a:ext cx="808380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жбюджетные отношения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хема 6" descr=""/>
          <p:cNvPicPr/>
          <p:nvPr/>
        </p:nvPicPr>
        <p:blipFill>
          <a:blip r:embed="rId2"/>
          <a:stretch/>
        </p:blipFill>
        <p:spPr>
          <a:xfrm>
            <a:off x="1481040" y="695160"/>
            <a:ext cx="6321600" cy="281016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1"/>
          <p:cNvSpPr/>
          <p:nvPr/>
        </p:nvSpPr>
        <p:spPr>
          <a:xfrm>
            <a:off x="928800" y="3286080"/>
            <a:ext cx="764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Диаграмма 9" descr=""/>
          <p:cNvPicPr/>
          <p:nvPr/>
        </p:nvPicPr>
        <p:blipFill>
          <a:blip r:embed="rId3"/>
          <a:stretch/>
        </p:blipFill>
        <p:spPr>
          <a:xfrm>
            <a:off x="633240" y="3992400"/>
            <a:ext cx="8302680" cy="27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4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униципальный долг Аннинского город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871560"/>
            <a:ext cx="8899200" cy="248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1487520" y="4044960"/>
          <a:ext cx="5857920" cy="1555920"/>
        </p:xfrm>
        <a:graphic>
          <a:graphicData uri="http://schemas.openxmlformats.org/drawingml/2006/table">
            <a:tbl>
              <a:tblPr/>
              <a:tblGrid>
                <a:gridCol w="4576680"/>
                <a:gridCol w="1281240"/>
              </a:tblGrid>
              <a:tr h="480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сего муниципальный долг, 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Бюджет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Отношение муниципального долга к налоговым и неналоговым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8" name="TextBox 25"/>
          <p:cNvSpPr/>
          <p:nvPr/>
        </p:nvSpPr>
        <p:spPr>
          <a:xfrm>
            <a:off x="1463760" y="357192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Муниципальный долг </a:t>
            </a:r>
            <a:r>
              <a:rPr b="1" lang="ru-RU" sz="2400" spc="-1" strike="noStrike" u="sng">
                <a:solidFill>
                  <a:srgbClr val="77933c"/>
                </a:solidFill>
                <a:uFillTx/>
                <a:latin typeface="Gabriola"/>
              </a:rPr>
              <a:t>Аннинского городского </a:t>
            </a: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142920" y="1071720"/>
            <a:ext cx="88581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 Аннинского город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Беляев Алексей Викто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Воронежская область пгт.Анна 396250 пгт.Анна, ул. Ленина,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(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8-47346-2-13-58</a:t>
            </a: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nnag.anna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4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1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2"/>
          <p:cNvSpPr/>
          <p:nvPr/>
        </p:nvSpPr>
        <p:spPr>
          <a:xfrm>
            <a:off x="0" y="-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Georgia"/>
              </a:rPr>
              <a:t>Участие граждан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Выноска 2 6"/>
          <p:cNvSpPr/>
          <p:nvPr/>
        </p:nvSpPr>
        <p:spPr>
          <a:xfrm>
            <a:off x="2529000" y="4071960"/>
            <a:ext cx="5757840" cy="2214720"/>
          </a:xfrm>
          <a:prstGeom prst="borderCallout2">
            <a:avLst>
              <a:gd name="adj1" fmla="val 18750"/>
              <a:gd name="adj2" fmla="val -8333"/>
              <a:gd name="adj3" fmla="val -33722"/>
              <a:gd name="adj4" fmla="val 36847"/>
              <a:gd name="adj5" fmla="val -34129"/>
              <a:gd name="adj6" fmla="val 36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3600360" y="4071960"/>
            <a:ext cx="30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ИЕ ГРАЖДАН В ФОРМИРОВАНИ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ТВЕРЖДЕНИИ БЮДЖЕ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5" descr=""/>
          <p:cNvPicPr/>
          <p:nvPr/>
        </p:nvPicPr>
        <p:blipFill>
          <a:blip r:embed="rId2"/>
          <a:stretch/>
        </p:blipFill>
        <p:spPr>
          <a:xfrm>
            <a:off x="438120" y="1079640"/>
            <a:ext cx="8242200" cy="3108240"/>
          </a:xfrm>
          <a:prstGeom prst="rect">
            <a:avLst/>
          </a:prstGeom>
          <a:ln w="0">
            <a:noFill/>
          </a:ln>
        </p:spPr>
      </p:pic>
      <p:sp>
        <p:nvSpPr>
          <p:cNvPr id="74" name="Выноска 2 9"/>
          <p:cNvSpPr/>
          <p:nvPr/>
        </p:nvSpPr>
        <p:spPr>
          <a:xfrm>
            <a:off x="6600960" y="785880"/>
            <a:ext cx="1928520" cy="1143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63666"/>
              <a:gd name="adj6" fmla="val -41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Calibri"/>
              </a:rPr>
              <a:t>Получает социальные гарантии по предоставлению муниципальных услуг (образование, культура и спорт, социальные льгот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Выноска 2 10"/>
          <p:cNvSpPr/>
          <p:nvPr/>
        </p:nvSpPr>
        <p:spPr>
          <a:xfrm>
            <a:off x="457200" y="3357720"/>
            <a:ext cx="1857240" cy="1071360"/>
          </a:xfrm>
          <a:prstGeom prst="borderCallout2">
            <a:avLst>
              <a:gd name="adj1" fmla="val 18750"/>
              <a:gd name="adj2" fmla="val -8333"/>
              <a:gd name="adj3" fmla="val 29662"/>
              <a:gd name="adj4" fmla="val 119208"/>
              <a:gd name="adj5" fmla="val -64305"/>
              <a:gd name="adj6" fmla="val 1598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вует в формировании доходной части бюджета  (уплата налогов и иных обязательных платежей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хема 11" descr=""/>
          <p:cNvPicPr/>
          <p:nvPr/>
        </p:nvPicPr>
        <p:blipFill>
          <a:blip r:embed="rId3"/>
          <a:stretch/>
        </p:blipFill>
        <p:spPr>
          <a:xfrm>
            <a:off x="2523960" y="4316400"/>
            <a:ext cx="4084920" cy="1908360"/>
          </a:xfrm>
          <a:prstGeom prst="rect">
            <a:avLst/>
          </a:prstGeom>
          <a:ln w="0">
            <a:noFill/>
          </a:ln>
        </p:spPr>
      </p:pic>
      <p:sp>
        <p:nvSpPr>
          <p:cNvPr id="77" name="TextBox 17"/>
          <p:cNvSpPr/>
          <p:nvPr/>
        </p:nvSpPr>
        <p:spPr>
          <a:xfrm>
            <a:off x="5672160" y="5757840"/>
            <a:ext cx="27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убличные обсуждения муницип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8" descr="source.gif"/>
          <p:cNvPicPr/>
          <p:nvPr/>
        </p:nvPicPr>
        <p:blipFill>
          <a:blip r:embed="rId4"/>
          <a:stretch/>
        </p:blipFill>
        <p:spPr>
          <a:xfrm>
            <a:off x="6191280" y="4027320"/>
            <a:ext cx="22384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ая соединительная линия 6"/>
          <p:cNvSpPr/>
          <p:nvPr/>
        </p:nvSpPr>
        <p:spPr>
          <a:xfrm>
            <a:off x="884160" y="3646440"/>
            <a:ext cx="7419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1071720" y="3786120"/>
            <a:ext cx="70005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Проект бюджета Аннинского городского поселения на 2025 год и на плановый период 2026 и 2027 годов сформирован в программном формате. Всего на данный момент в Аннинском городском поселении разработаны и утверждены 3 муниципальные программы</a:t>
            </a:r>
            <a:r>
              <a:rPr b="1" lang="ru-RU" sz="1300" spc="-1" strike="noStrike">
                <a:solidFill>
                  <a:srgbClr val="7c2647"/>
                </a:solidFill>
                <a:latin typeface="Times New Roman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8">
            <a:hlinkClick r:id="rId2" action="ppaction://hlinksldjump"/>
          </p:cNvPr>
          <p:cNvSpPr/>
          <p:nvPr/>
        </p:nvSpPr>
        <p:spPr>
          <a:xfrm>
            <a:off x="1143000" y="4714920"/>
            <a:ext cx="707220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221e78"/>
                </a:solidFill>
                <a:uFillTx/>
                <a:latin typeface="Times New Roman"/>
              </a:rPr>
              <a:t>«Формирование современной городской среды на территории Аннинского городского поселения Аннинского муниципального района Воронежской области на 2018-2024 годы»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221e78"/>
                </a:solidFill>
                <a:uFillTx/>
                <a:latin typeface="Times New Roman"/>
              </a:rPr>
              <a:t>«Развитие культурно-досуговой деятельности Аннинского городского поселения»</a:t>
            </a: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«</a:t>
            </a:r>
            <a:r>
              <a:rPr b="1" lang="ru-RU" sz="1100" spc="-1" strike="noStrike" u="sng">
                <a:solidFill>
                  <a:srgbClr val="221e78"/>
                </a:solidFill>
                <a:uFillTx/>
                <a:latin typeface="Times New Roman"/>
              </a:rPr>
              <a:t>Развитие Аннинского городского поселения и управление финансами в поселении»</a:t>
            </a: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одержимое 7" descr=""/>
          <p:cNvPicPr/>
          <p:nvPr/>
        </p:nvPicPr>
        <p:blipFill>
          <a:blip r:embed="rId3"/>
          <a:stretch/>
        </p:blipFill>
        <p:spPr>
          <a:xfrm>
            <a:off x="341280" y="828720"/>
            <a:ext cx="8521560" cy="2762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4"/>
          <p:cNvSpPr/>
          <p:nvPr/>
        </p:nvSpPr>
        <p:spPr>
          <a:xfrm>
            <a:off x="0" y="28584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ставление бюджета Аннинского городского поселения основывается н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4"/>
          <p:cNvSpPr/>
          <p:nvPr/>
        </p:nvSpPr>
        <p:spPr>
          <a:xfrm>
            <a:off x="0" y="214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параметры бюджета Аннинского городского по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4200" y="857160"/>
          <a:ext cx="8715600" cy="2341800"/>
        </p:xfrm>
        <a:graphic>
          <a:graphicData uri="http://schemas.openxmlformats.org/drawingml/2006/table">
            <a:tbl>
              <a:tblPr/>
              <a:tblGrid>
                <a:gridCol w="2178000"/>
                <a:gridCol w="1744920"/>
                <a:gridCol w="1670040"/>
                <a:gridCol w="1596960"/>
                <a:gridCol w="1525680"/>
              </a:tblGrid>
              <a:tr h="276480"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ПРО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 год ПРО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7год ПРО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27648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36068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38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7144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36084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648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40200">
                <a:tc>
                  <a:txBody>
                    <a:bodyPr lIns="88560" rIns="88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Налоговые и неналогов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Times New Roman"/>
                        </a:rPr>
                        <a:t>8031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459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776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9325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40200">
                <a:tc>
                  <a:txBody>
                    <a:bodyPr lIns="88560" rIns="88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Безвозмездные перечис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8036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5366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367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6759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6480">
                <a:tc>
                  <a:txBody>
                    <a:bodyPr lIns="88560" rIns="88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36788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4672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7144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36084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9360">
                <a:tc>
                  <a:txBody>
                    <a:bodyPr lIns="88560" rIns="88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/Профицит (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7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84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648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змер дефицита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10" name="Полилиния: фигура 11"/>
          <p:cNvSpPr/>
          <p:nvPr/>
        </p:nvSpPr>
        <p:spPr>
          <a:xfrm>
            <a:off x="-2000160" y="1714680"/>
            <a:ext cx="1714320" cy="78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l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олилиния: фигура 7"/>
          <p:cNvSpPr/>
          <p:nvPr/>
        </p:nvSpPr>
        <p:spPr>
          <a:xfrm>
            <a:off x="714240" y="5572080"/>
            <a:ext cx="171468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олилиния: фигура 11"/>
          <p:cNvSpPr/>
          <p:nvPr/>
        </p:nvSpPr>
        <p:spPr>
          <a:xfrm>
            <a:off x="44290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l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лилиния: фигура 11"/>
          <p:cNvSpPr/>
          <p:nvPr/>
        </p:nvSpPr>
        <p:spPr>
          <a:xfrm>
            <a:off x="642924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l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: фигура 7"/>
          <p:cNvSpPr/>
          <p:nvPr/>
        </p:nvSpPr>
        <p:spPr>
          <a:xfrm>
            <a:off x="2714760" y="5572080"/>
            <a:ext cx="17143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Диаграмма 15" descr=""/>
          <p:cNvPicPr/>
          <p:nvPr/>
        </p:nvPicPr>
        <p:blipFill>
          <a:blip r:embed="rId2"/>
          <a:stretch/>
        </p:blipFill>
        <p:spPr>
          <a:xfrm>
            <a:off x="781200" y="3279600"/>
            <a:ext cx="7869240" cy="30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133200"/>
            <a:ext cx="9017280" cy="6731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Схема 25" descr=""/>
          <p:cNvPicPr/>
          <p:nvPr/>
        </p:nvPicPr>
        <p:blipFill>
          <a:blip r:embed="rId2"/>
          <a:stretch/>
        </p:blipFill>
        <p:spPr>
          <a:xfrm>
            <a:off x="96840" y="566640"/>
            <a:ext cx="8955000" cy="387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142920" y="3589200"/>
          <a:ext cx="7831080" cy="3264120"/>
        </p:xfrm>
        <a:graphic>
          <a:graphicData uri="http://schemas.openxmlformats.org/drawingml/2006/table">
            <a:tbl>
              <a:tblPr/>
              <a:tblGrid>
                <a:gridCol w="819000"/>
                <a:gridCol w="4341960"/>
                <a:gridCol w="868320"/>
                <a:gridCol w="1801800"/>
              </a:tblGrid>
              <a:tr h="165240">
                <a:tc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    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grid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умма тыс.ру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% к общему объе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5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ХОД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3826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5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ОГОВЫЕ И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459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792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05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26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5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792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оги на товары (акциз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9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5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ог на иму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34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127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4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05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128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ходы от  оказания платных услуг, 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05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 БЮДЖЕТОВ ДРУГИХ УРОВ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36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25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т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5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убсид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170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4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982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41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Диаграмма 7" descr=""/>
          <p:cNvPicPr/>
          <p:nvPr/>
        </p:nvPicPr>
        <p:blipFill>
          <a:blip r:embed="rId2"/>
          <a:stretch/>
        </p:blipFill>
        <p:spPr>
          <a:xfrm>
            <a:off x="353880" y="633240"/>
            <a:ext cx="813780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User</cp:lastModifiedBy>
  <dcterms:modified xsi:type="dcterms:W3CDTF">2024-11-25T08:27:50Z</dcterms:modified>
  <cp:revision>118</cp:revision>
  <dc:subject/>
  <dc:title>Слайд 1</dc:title>
</cp:coreProperties>
</file>