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C36-69FA-42A4-90CE-BD50A2AF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982-E552-4F0C-B916-1AA3F5E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6FA-58B9-4832-A1EE-B40EB9DE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A33-D3CA-448D-A345-49FF59E1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F99-B166-4053-A3B4-14A5B40B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9E2-DD69-4190-948A-DD77E45F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228-69DE-4242-853E-339FD7B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D51-65FE-4824-AE49-0EA905B9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443-EE1F-4B42-944C-55E184B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30A-0F68-4424-9CB5-DC520E4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435-10A6-4354-BDEA-421812F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C76-07DF-4DCC-8EFC-E394693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47F-5FDB-442D-B757-7162BF550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nnag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АННИНСКОГО 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C:\Users\dohod5\Pictures\бюд 22\Рисунок7.png"/>
          <p:cNvPicPr/>
          <p:nvPr/>
        </p:nvPicPr>
        <p:blipFill>
          <a:blip r:embed="rId3"/>
          <a:stretch/>
        </p:blipFill>
        <p:spPr>
          <a:xfrm>
            <a:off x="242892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 решению Совета народных депутатов Аннинского город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Аннинского городского поселения на 2024 год и на плановый период 2025 и 2026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ННИНСКОЕ ГОРОД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Герб"/>
          <p:cNvPicPr/>
          <p:nvPr/>
        </p:nvPicPr>
        <p:blipFill>
          <a:blip r:embed="rId4"/>
          <a:stretch/>
        </p:blipFill>
        <p:spPr>
          <a:xfrm>
            <a:off x="496800" y="214200"/>
            <a:ext cx="57492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Потребительские кредиты наличными от 9,8% без страховок в Банке Нейва"/>
          <p:cNvPicPr/>
          <p:nvPr/>
        </p:nvPicPr>
        <p:blipFill>
          <a:blip r:embed="rId5"/>
          <a:stretch/>
        </p:blipFill>
        <p:spPr>
          <a:xfrm>
            <a:off x="3643200" y="3071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1680" y="785880"/>
          <a:ext cx="8072280" cy="2371680"/>
        </p:xfrm>
        <a:graphic>
          <a:graphicData uri="http://schemas.openxmlformats.org/drawingml/2006/table">
            <a:tbl>
              <a:tblPr/>
              <a:tblGrid>
                <a:gridCol w="865080"/>
                <a:gridCol w="4960800"/>
                <a:gridCol w="998640"/>
                <a:gridCol w="1247760"/>
              </a:tblGrid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6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20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6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5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2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2" name="Диаграмма 11" descr=""/>
          <p:cNvPicPr/>
          <p:nvPr/>
        </p:nvPicPr>
        <p:blipFill>
          <a:blip r:embed="rId2"/>
          <a:stretch/>
        </p:blipFill>
        <p:spPr>
          <a:xfrm>
            <a:off x="566640" y="3139920"/>
            <a:ext cx="80838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хема 6" descr=""/>
          <p:cNvPicPr/>
          <p:nvPr/>
        </p:nvPicPr>
        <p:blipFill>
          <a:blip r:embed="rId2"/>
          <a:stretch/>
        </p:blipFill>
        <p:spPr>
          <a:xfrm>
            <a:off x="1481040" y="695160"/>
            <a:ext cx="6321600" cy="28101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1"/>
          <p:cNvSpPr/>
          <p:nvPr/>
        </p:nvSpPr>
        <p:spPr>
          <a:xfrm>
            <a:off x="928800" y="3286080"/>
            <a:ext cx="76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9" descr=""/>
          <p:cNvPicPr/>
          <p:nvPr/>
        </p:nvPicPr>
        <p:blipFill>
          <a:blip r:embed="rId3"/>
          <a:stretch/>
        </p:blipFill>
        <p:spPr>
          <a:xfrm>
            <a:off x="633240" y="3992400"/>
            <a:ext cx="8302680" cy="27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Аннин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</a:t>
            </a:r>
            <a:r>
              <a:rPr b="1" lang="ru-RU" sz="2400" spc="-1" strike="noStrike" u="sng">
                <a:solidFill>
                  <a:srgbClr val="77933c"/>
                </a:solidFill>
                <a:uFillTx/>
                <a:latin typeface="Gabriola"/>
              </a:rPr>
              <a:t>Аннинского городского </a:t>
            </a: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42920" y="1071720"/>
            <a:ext cx="8858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 Аннинского город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еляев Алексей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оронежская область пгт.Анна 396250 пгт.Анна, ул. Ленина,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8-47346-2-13-58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na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4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4084920" cy="1908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8" descr="source.gif"/>
          <p:cNvPicPr/>
          <p:nvPr/>
        </p:nvPicPr>
        <p:blipFill>
          <a:blip r:embed="rId4"/>
          <a:stretch/>
        </p:blipFill>
        <p:spPr>
          <a:xfrm>
            <a:off x="619128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Аннинского городского поселения на 2024 год и на плановый период 2025 и 2026 годов сформирован в программном формате. Всего на данный момент в Аннинском городском поселении разработаны и утверждены 3 муниципальные программы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714920"/>
            <a:ext cx="70722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Формирование современной городской среды на территории Аннинского городского поселения Аннинского муниципального района Воронежской области на 2018-2024 годы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Развитие культурно-досуговой деятельности Аннинского городского поселения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Развитие Аннинского городского поселения и управление финансами в поселении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4"/>
          <p:cNvSpPr/>
          <p:nvPr/>
        </p:nvSpPr>
        <p:spPr>
          <a:xfrm>
            <a:off x="0" y="28584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Аннинского городского поселения основывается 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Аннин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857160"/>
          <a:ext cx="8715600" cy="2341800"/>
        </p:xfrm>
        <a:graphic>
          <a:graphicData uri="http://schemas.openxmlformats.org/drawingml/2006/table">
            <a:tbl>
              <a:tblPr/>
              <a:tblGrid>
                <a:gridCol w="2178000"/>
                <a:gridCol w="1744920"/>
                <a:gridCol w="1670040"/>
                <a:gridCol w="1596960"/>
                <a:gridCol w="1525680"/>
              </a:tblGrid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4049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340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848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308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Налоговые и неналогов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Times New Roman"/>
                        </a:rPr>
                        <a:t>8690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1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5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9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Безвозмездные перечис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180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264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498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41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4064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412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8240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257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936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/Профицит 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50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72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змер дефицит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0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Диаграмма 15" descr=""/>
          <p:cNvPicPr/>
          <p:nvPr/>
        </p:nvPicPr>
        <p:blipFill>
          <a:blip r:embed="rId2"/>
          <a:stretch/>
        </p:blipFill>
        <p:spPr>
          <a:xfrm>
            <a:off x="781200" y="3279600"/>
            <a:ext cx="786924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хема 25" descr=""/>
          <p:cNvPicPr/>
          <p:nvPr/>
        </p:nvPicPr>
        <p:blipFill>
          <a:blip r:embed="rId2"/>
          <a:stretch/>
        </p:blipFill>
        <p:spPr>
          <a:xfrm>
            <a:off x="96840" y="566640"/>
            <a:ext cx="895500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42920" y="3589200"/>
          <a:ext cx="8858160" cy="3227400"/>
        </p:xfrm>
        <a:graphic>
          <a:graphicData uri="http://schemas.openxmlformats.org/drawingml/2006/table">
            <a:tbl>
              <a:tblPr/>
              <a:tblGrid>
                <a:gridCol w="819000"/>
                <a:gridCol w="4341960"/>
                <a:gridCol w="1895400"/>
                <a:gridCol w="1801800"/>
              </a:tblGrid>
              <a:tr h="16524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мма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40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1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9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7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и на товары (акциз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4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27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12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 оказания платных услуг, 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БЮДЖЕТОВ ДРУГИХ УРОВ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264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бси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0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5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34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7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137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User</cp:lastModifiedBy>
  <dcterms:modified xsi:type="dcterms:W3CDTF">2024-05-08T10:02:02Z</dcterms:modified>
  <cp:revision>104</cp:revision>
  <dc:subject/>
  <dc:title>Слайд 1</dc:title>
</cp:coreProperties>
</file>