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DB52-64F7-40FF-919A-816CAE59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0D22-8958-46E0-B3F3-C343F4B1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764-1A2A-4E14-B577-B10C1931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D82-C492-467B-AD1F-57A5B97A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0779-BF2A-4EED-94DF-3AA8C32A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1DC8-A4B3-46C2-AB38-59056658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5610-489C-4138-9051-E1B859A5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14EE-B1FC-4EC3-B2ED-16AB9210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EEB3-E5F1-44C7-B0AE-1C1D22B6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8F7E-2EA8-4946-A244-EB11C352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0962-48A4-4D01-A321-6BC9D407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2F5F-5929-4993-8BF1-4B9A4964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322C-3727-4B42-B400-B6B5239E3E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annag.anna@govvrn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АННИНСКОГО ГОРОД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extBox 4" descr=""/>
          <p:cNvPicPr/>
          <p:nvPr/>
        </p:nvPicPr>
        <p:blipFill>
          <a:blip r:embed="rId2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1" descr="C:\Users\dohod5\Pictures\бюд 22\Рисунок7.png"/>
          <p:cNvPicPr/>
          <p:nvPr/>
        </p:nvPicPr>
        <p:blipFill>
          <a:blip r:embed="rId3"/>
          <a:stretch/>
        </p:blipFill>
        <p:spPr>
          <a:xfrm>
            <a:off x="2428920" y="1571760"/>
            <a:ext cx="5656320" cy="565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26"/>
          <p:cNvSpPr/>
          <p:nvPr/>
        </p:nvSpPr>
        <p:spPr>
          <a:xfrm>
            <a:off x="142920" y="1841400"/>
            <a:ext cx="88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 Совета народных депутатов Аннинского городского поселения 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го района № 232 от 28.12.2022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 бюджете Аннинского городского поселения на 2023 год и на плановый период 2024 и 2025 год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АННИНСКОЕ ГОРОДСКОЕ ПОСЕЛЕНИЕ, 20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Герб"/>
          <p:cNvPicPr/>
          <p:nvPr/>
        </p:nvPicPr>
        <p:blipFill>
          <a:blip r:embed="rId4"/>
          <a:stretch/>
        </p:blipFill>
        <p:spPr>
          <a:xfrm>
            <a:off x="496800" y="214200"/>
            <a:ext cx="574920" cy="7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1" descr="Потребительские кредиты наличными от 9,8% без страховок в Банке Нейва"/>
          <p:cNvPicPr/>
          <p:nvPr/>
        </p:nvPicPr>
        <p:blipFill>
          <a:blip r:embed="rId5"/>
          <a:stretch/>
        </p:blipFill>
        <p:spPr>
          <a:xfrm>
            <a:off x="3643200" y="307188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42960" y="808200"/>
          <a:ext cx="8001000" cy="2349360"/>
        </p:xfrm>
        <a:graphic>
          <a:graphicData uri="http://schemas.openxmlformats.org/drawingml/2006/table">
            <a:tbl>
              <a:tblPr/>
              <a:tblGrid>
                <a:gridCol w="857160"/>
                <a:gridCol w="4918320"/>
                <a:gridCol w="988920"/>
                <a:gridCol w="1236600"/>
              </a:tblGrid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50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00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 62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8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94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334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8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56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  <p:pic>
        <p:nvPicPr>
          <p:cNvPr id="132" name="Диаграмма 12" descr=""/>
          <p:cNvPicPr/>
          <p:nvPr/>
        </p:nvPicPr>
        <p:blipFill>
          <a:blip r:embed="rId2"/>
          <a:stretch/>
        </p:blipFill>
        <p:spPr>
          <a:xfrm>
            <a:off x="353880" y="3279600"/>
            <a:ext cx="8436240" cy="34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жбюджетные отношения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Схема 6" descr=""/>
          <p:cNvPicPr/>
          <p:nvPr/>
        </p:nvPicPr>
        <p:blipFill>
          <a:blip r:embed="rId2"/>
          <a:stretch/>
        </p:blipFill>
        <p:spPr>
          <a:xfrm>
            <a:off x="1481040" y="914400"/>
            <a:ext cx="6321600" cy="259092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1"/>
          <p:cNvSpPr/>
          <p:nvPr/>
        </p:nvSpPr>
        <p:spPr>
          <a:xfrm>
            <a:off x="1500120" y="342900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Диаграмма 10" descr=""/>
          <p:cNvPicPr/>
          <p:nvPr/>
        </p:nvPicPr>
        <p:blipFill>
          <a:blip r:embed="rId3"/>
          <a:stretch/>
        </p:blipFill>
        <p:spPr>
          <a:xfrm>
            <a:off x="549360" y="4206960"/>
            <a:ext cx="81738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4"/>
          <p:cNvSpPr/>
          <p:nvPr/>
        </p:nvSpPr>
        <p:spPr>
          <a:xfrm>
            <a:off x="0" y="214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униципальный долг Аннинского город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871560"/>
            <a:ext cx="8899200" cy="248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1487520" y="4044960"/>
          <a:ext cx="5857920" cy="1555920"/>
        </p:xfrm>
        <a:graphic>
          <a:graphicData uri="http://schemas.openxmlformats.org/drawingml/2006/table">
            <a:tbl>
              <a:tblPr/>
              <a:tblGrid>
                <a:gridCol w="4576680"/>
                <a:gridCol w="1281240"/>
              </a:tblGrid>
              <a:tr h="480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ид долгового обязатель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Сумма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сего муниципальный долг, 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6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Бюджетные кред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Отношение муниципального долга к налоговым и неналоговым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8" name="TextBox 25"/>
          <p:cNvSpPr/>
          <p:nvPr/>
        </p:nvSpPr>
        <p:spPr>
          <a:xfrm>
            <a:off x="1463760" y="357192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Gabriola"/>
              </a:rPr>
              <a:t>Муниципальный долг </a:t>
            </a:r>
            <a:r>
              <a:rPr b="1" lang="ru-RU" sz="2400" spc="-1" strike="noStrike" u="sng">
                <a:solidFill>
                  <a:srgbClr val="77933c"/>
                </a:solidFill>
                <a:uFillTx/>
                <a:latin typeface="Gabriola"/>
              </a:rPr>
              <a:t>Аннинского городского </a:t>
            </a:r>
            <a:r>
              <a:rPr b="1" lang="ru-RU" sz="2400" spc="-1" strike="noStrike">
                <a:solidFill>
                  <a:srgbClr val="77933c"/>
                </a:solidFill>
                <a:latin typeface="Gabriola"/>
              </a:rPr>
              <a:t>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142920" y="1071720"/>
            <a:ext cx="88581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 Аннинского город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Беляев Алексей Викто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 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Воронежская область пгт.Анна 396250 пгт.Анна, ул. Ленина,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(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8-47346-2-13-58</a:t>
            </a:r>
            <a:r>
              <a:rPr b="1" i="1" lang="ru-RU" sz="12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nnag.anna@govvrn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4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1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71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12"/>
          <p:cNvSpPr/>
          <p:nvPr/>
        </p:nvSpPr>
        <p:spPr>
          <a:xfrm>
            <a:off x="0" y="-142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Georgia"/>
              </a:rPr>
              <a:t>Участие граждан в бюджет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Выноска 2 6"/>
          <p:cNvSpPr/>
          <p:nvPr/>
        </p:nvSpPr>
        <p:spPr>
          <a:xfrm>
            <a:off x="2529000" y="4071960"/>
            <a:ext cx="5757840" cy="2214720"/>
          </a:xfrm>
          <a:prstGeom prst="borderCallout2">
            <a:avLst>
              <a:gd name="adj1" fmla="val 18750"/>
              <a:gd name="adj2" fmla="val -8333"/>
              <a:gd name="adj3" fmla="val -33722"/>
              <a:gd name="adj4" fmla="val 36847"/>
              <a:gd name="adj5" fmla="val -34129"/>
              <a:gd name="adj6" fmla="val 36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3600360" y="4071960"/>
            <a:ext cx="30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ИЕ ГРАЖДАН В ФОРМИРОВАНИИ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ТВЕРЖДЕНИИ БЮДЖЕ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5" descr=""/>
          <p:cNvPicPr/>
          <p:nvPr/>
        </p:nvPicPr>
        <p:blipFill>
          <a:blip r:embed="rId2"/>
          <a:stretch/>
        </p:blipFill>
        <p:spPr>
          <a:xfrm>
            <a:off x="438120" y="1079640"/>
            <a:ext cx="8242200" cy="3108240"/>
          </a:xfrm>
          <a:prstGeom prst="rect">
            <a:avLst/>
          </a:prstGeom>
          <a:ln w="0">
            <a:noFill/>
          </a:ln>
        </p:spPr>
      </p:pic>
      <p:sp>
        <p:nvSpPr>
          <p:cNvPr id="74" name="Выноска 2 9"/>
          <p:cNvSpPr/>
          <p:nvPr/>
        </p:nvSpPr>
        <p:spPr>
          <a:xfrm>
            <a:off x="6600960" y="785880"/>
            <a:ext cx="1928520" cy="1143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63666"/>
              <a:gd name="adj6" fmla="val -41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Calibri"/>
              </a:rPr>
              <a:t>Получает социальные гарантии по предоставлению муниципальных услуг (образование, культура и спорт, социальные льготы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Выноска 2 10"/>
          <p:cNvSpPr/>
          <p:nvPr/>
        </p:nvSpPr>
        <p:spPr>
          <a:xfrm>
            <a:off x="457200" y="3357720"/>
            <a:ext cx="1857240" cy="1071360"/>
          </a:xfrm>
          <a:prstGeom prst="borderCallout2">
            <a:avLst>
              <a:gd name="adj1" fmla="val 18750"/>
              <a:gd name="adj2" fmla="val -8333"/>
              <a:gd name="adj3" fmla="val 29662"/>
              <a:gd name="adj4" fmla="val 119208"/>
              <a:gd name="adj5" fmla="val -64305"/>
              <a:gd name="adj6" fmla="val 159851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вует в формировании доходной части бюджета  (уплата налогов и иных обязательных платежей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хема 11" descr=""/>
          <p:cNvPicPr/>
          <p:nvPr/>
        </p:nvPicPr>
        <p:blipFill>
          <a:blip r:embed="rId3"/>
          <a:stretch/>
        </p:blipFill>
        <p:spPr>
          <a:xfrm>
            <a:off x="2523960" y="4316400"/>
            <a:ext cx="4084920" cy="1908360"/>
          </a:xfrm>
          <a:prstGeom prst="rect">
            <a:avLst/>
          </a:prstGeom>
          <a:ln w="0">
            <a:noFill/>
          </a:ln>
        </p:spPr>
      </p:pic>
      <p:sp>
        <p:nvSpPr>
          <p:cNvPr id="77" name="TextBox 17"/>
          <p:cNvSpPr/>
          <p:nvPr/>
        </p:nvSpPr>
        <p:spPr>
          <a:xfrm>
            <a:off x="5672160" y="5757840"/>
            <a:ext cx="271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убличные обсуждения муниципаль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р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8" descr="source.gif"/>
          <p:cNvPicPr/>
          <p:nvPr/>
        </p:nvPicPr>
        <p:blipFill>
          <a:blip r:embed="rId4"/>
          <a:stretch/>
        </p:blipFill>
        <p:spPr>
          <a:xfrm>
            <a:off x="6191280" y="4027320"/>
            <a:ext cx="22384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ая соединительная линия 6"/>
          <p:cNvSpPr/>
          <p:nvPr/>
        </p:nvSpPr>
        <p:spPr>
          <a:xfrm>
            <a:off x="884160" y="3646440"/>
            <a:ext cx="74199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1071720" y="3786120"/>
            <a:ext cx="70005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Проект бюджета Аннинского городского поселения на 2023 год и на плановый период 2024 и 2025 годов сформирован в программном формате. Всего на данный момент в Аннинском городском поселении разработаны и утверждены 3 муниципальные программы</a:t>
            </a:r>
            <a:r>
              <a:rPr b="1" lang="ru-RU" sz="1300" spc="-1" strike="noStrike">
                <a:solidFill>
                  <a:srgbClr val="7c2647"/>
                </a:solidFill>
                <a:latin typeface="Times New Roman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8">
            <a:hlinkClick r:id="rId2" action="ppaction://hlinksldjump"/>
          </p:cNvPr>
          <p:cNvSpPr/>
          <p:nvPr/>
        </p:nvSpPr>
        <p:spPr>
          <a:xfrm>
            <a:off x="1143000" y="4714920"/>
            <a:ext cx="707220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221e78"/>
                </a:solidFill>
                <a:uFillTx/>
                <a:latin typeface="Times New Roman"/>
              </a:rPr>
              <a:t>«Формирование современной городской среды на территории Аннинского городского поселения Аннинского муниципального района Воронежской области на 2018-2024 годы»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221e78"/>
                </a:solidFill>
                <a:uFillTx/>
                <a:latin typeface="Times New Roman"/>
              </a:rPr>
              <a:t>«Развитие культурно-досуговой деятельности Аннинского городского поселения»</a:t>
            </a: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«</a:t>
            </a:r>
            <a:r>
              <a:rPr b="1" lang="ru-RU" sz="1100" spc="-1" strike="noStrike" u="sng">
                <a:solidFill>
                  <a:srgbClr val="221e78"/>
                </a:solidFill>
                <a:uFillTx/>
                <a:latin typeface="Times New Roman"/>
              </a:rPr>
              <a:t>Развитие Аннинского городского поселения и управление финансами в поселении»</a:t>
            </a: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одержимое 7" descr=""/>
          <p:cNvPicPr/>
          <p:nvPr/>
        </p:nvPicPr>
        <p:blipFill>
          <a:blip r:embed="rId3"/>
          <a:stretch/>
        </p:blipFill>
        <p:spPr>
          <a:xfrm>
            <a:off x="341280" y="828720"/>
            <a:ext cx="8521560" cy="27622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4"/>
          <p:cNvSpPr/>
          <p:nvPr/>
        </p:nvSpPr>
        <p:spPr>
          <a:xfrm>
            <a:off x="0" y="285840"/>
            <a:ext cx="914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оставление бюджета Аннинского городского поселения основывается н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4"/>
          <p:cNvSpPr/>
          <p:nvPr/>
        </p:nvSpPr>
        <p:spPr>
          <a:xfrm>
            <a:off x="0" y="214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параметры бюджета Аннинского городского по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14200" y="857160"/>
          <a:ext cx="8715600" cy="2341800"/>
        </p:xfrm>
        <a:graphic>
          <a:graphicData uri="http://schemas.openxmlformats.org/drawingml/2006/table">
            <a:tbl>
              <a:tblPr/>
              <a:tblGrid>
                <a:gridCol w="2178000"/>
                <a:gridCol w="1744920"/>
                <a:gridCol w="1670040"/>
                <a:gridCol w="1596960"/>
                <a:gridCol w="1525680"/>
              </a:tblGrid>
              <a:tr h="276480"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 год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 ПРО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ПРО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ПРО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27648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37409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6616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2626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2259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648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40200">
                <a:tc>
                  <a:txBody>
                    <a:bodyPr lIns="88560" rIns="88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Налоговые и неналогов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Times New Roman"/>
                        </a:rPr>
                        <a:t>8084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6479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68845</a:t>
                      </a: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202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40200">
                <a:tc>
                  <a:txBody>
                    <a:bodyPr lIns="88560" rIns="88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Безвозмездные перечис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9325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0136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5742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5057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6480">
                <a:tc>
                  <a:txBody>
                    <a:bodyPr lIns="88560" rIns="88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36649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7256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2626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2259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9360">
                <a:tc>
                  <a:txBody>
                    <a:bodyPr lIns="88560" rIns="88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/Профицит (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60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-64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648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змер дефицита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10" name="Полилиния: фигура 11"/>
          <p:cNvSpPr/>
          <p:nvPr/>
        </p:nvSpPr>
        <p:spPr>
          <a:xfrm>
            <a:off x="-2000160" y="1714680"/>
            <a:ext cx="1714320" cy="78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l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Диаграмма 14" descr=""/>
          <p:cNvPicPr/>
          <p:nvPr/>
        </p:nvPicPr>
        <p:blipFill>
          <a:blip r:embed="rId2"/>
          <a:stretch/>
        </p:blipFill>
        <p:spPr>
          <a:xfrm>
            <a:off x="208080" y="3352680"/>
            <a:ext cx="8802720" cy="3297240"/>
          </a:xfrm>
          <a:prstGeom prst="rect">
            <a:avLst/>
          </a:prstGeom>
          <a:ln w="0">
            <a:noFill/>
          </a:ln>
        </p:spPr>
      </p:pic>
      <p:sp>
        <p:nvSpPr>
          <p:cNvPr id="112" name="Полилиния: фигура 7"/>
          <p:cNvSpPr/>
          <p:nvPr/>
        </p:nvSpPr>
        <p:spPr>
          <a:xfrm>
            <a:off x="714240" y="5572080"/>
            <a:ext cx="171468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l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олилиния: фигура 11"/>
          <p:cNvSpPr/>
          <p:nvPr/>
        </p:nvSpPr>
        <p:spPr>
          <a:xfrm>
            <a:off x="442908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: фигура 11"/>
          <p:cNvSpPr/>
          <p:nvPr/>
        </p:nvSpPr>
        <p:spPr>
          <a:xfrm>
            <a:off x="642924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олилиния: фигура 7"/>
          <p:cNvSpPr/>
          <p:nvPr/>
        </p:nvSpPr>
        <p:spPr>
          <a:xfrm>
            <a:off x="2714760" y="5572080"/>
            <a:ext cx="17143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Схема 25" descr=""/>
          <p:cNvPicPr/>
          <p:nvPr/>
        </p:nvPicPr>
        <p:blipFill>
          <a:blip r:embed="rId2"/>
          <a:stretch/>
        </p:blipFill>
        <p:spPr>
          <a:xfrm>
            <a:off x="96840" y="420840"/>
            <a:ext cx="8955000" cy="401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142920" y="3589200"/>
          <a:ext cx="8858160" cy="3173400"/>
        </p:xfrm>
        <a:graphic>
          <a:graphicData uri="http://schemas.openxmlformats.org/drawingml/2006/table">
            <a:tbl>
              <a:tblPr/>
              <a:tblGrid>
                <a:gridCol w="819000"/>
                <a:gridCol w="4341960"/>
                <a:gridCol w="1895400"/>
                <a:gridCol w="1801800"/>
              </a:tblGrid>
              <a:tr h="165240">
                <a:tc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    </a:t>
                      </a: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grid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умма тыс.ру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% к общему объе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4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ХОД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6616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52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ЛОГОВЫЕ И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479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4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38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75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4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9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52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логи на товары (акциз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82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4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лог на иму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954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127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49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52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04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22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4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34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ходы от  оказания платных услуг, 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9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52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 БЮДЖЕТОВ ДРУГИХ УРОВ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136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52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т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5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4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убсид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853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52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77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4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Диаграмма 6" descr=""/>
          <p:cNvPicPr/>
          <p:nvPr/>
        </p:nvPicPr>
        <p:blipFill>
          <a:blip r:embed="rId2"/>
          <a:stretch/>
        </p:blipFill>
        <p:spPr>
          <a:xfrm>
            <a:off x="353880" y="633240"/>
            <a:ext cx="813780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DOHOD2</cp:lastModifiedBy>
  <dcterms:modified xsi:type="dcterms:W3CDTF">2023-07-17T08:05:30Z</dcterms:modified>
  <cp:revision>80</cp:revision>
  <dc:subject/>
  <dc:title>Слайд 1</dc:title>
</cp:coreProperties>
</file>